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6674-72EA-4731-BFB8-41D8DC1D7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BFB1-D404-4CC4-A1F2-DADFCFA5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C22A-7877-46C3-B2D5-C314F156F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B656-8395-4B60-B7FB-2DF6268B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57C4-C2BF-426B-B82F-B7EC4126F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80AF-F606-43A3-9A42-2A80E009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C3A6-7C5D-4DE1-85A7-7E325066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3976-D330-403C-84D6-4C3E1F0F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9750-17D2-42A2-AF60-38DE9DF7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425D-BFDE-46F3-9753-7A5915B4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BAA8-E01E-4F30-8D38-4E25C5F1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16A5-6E75-4005-99EA-B3F43936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133A-C32C-452F-B56F-CEB3BE69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9066-6E3A-4829-A7BD-D0D458B8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FC97-2D09-4F7C-8711-68613DAB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6763-4120-4AB3-AC4F-0AB2FB26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FFB8-0E80-49E8-9C87-3D73BBB4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DA3F-BD35-400B-BD63-2DD7CE02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27A6-4A6B-4A9D-9A73-CB28A84E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485D-88CB-4D70-A288-08E0A3FC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968D-F623-498E-A0C4-F1102C7D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7EF0-F332-475F-BFD4-B990AA48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9A20-FC68-4242-90AD-F9E67A68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9DA2-FB5C-4B99-8091-5A763A13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EB82-6D99-4456-8EE0-7744CF4DF4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BC74-CB78-4B80-9CA9-E35811CDC58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76312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 14-kg mass is attached to a 1.32-m rope that is swung in a vertical loop at a constant speed of 5.3 m/s.  What is the tension in the loop when it is at the top of its path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50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2128320"/>
            <a:ext cx="4270320" cy="39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40 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8 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98 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38 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53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454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9966ff"/>
                </a:gs>
                <a:gs pos="100000">
                  <a:srgbClr val="9383b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hat is the tension in the rope when it is parallel to the ground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57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270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40 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8 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98 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38 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60" name="ResponseCounter"/>
          <p:cNvGrpSpPr/>
          <p:nvPr/>
        </p:nvGrpSpPr>
        <p:grpSpPr>
          <a:xfrm>
            <a:off x="317520" y="4660920"/>
            <a:ext cx="1270080" cy="1879560"/>
            <a:chOff x="317520" y="4660920"/>
            <a:chExt cx="1270080" cy="1879560"/>
          </a:xfrm>
        </p:grpSpPr>
        <p:sp>
          <p:nvSpPr>
            <p:cNvPr id="461" name="RCArrow"/>
            <p:cNvSpPr/>
            <p:nvPr/>
          </p:nvSpPr>
          <p:spPr>
            <a:xfrm>
              <a:off x="317520" y="5486400"/>
              <a:ext cx="1270080" cy="253800"/>
            </a:xfrm>
            <a:prstGeom prst="leftArrow">
              <a:avLst>
                <a:gd name="adj1" fmla="val 50000"/>
                <a:gd name="adj2" fmla="val 125106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a3c145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RCTextBottom"/>
            <p:cNvSpPr/>
            <p:nvPr/>
          </p:nvSpPr>
          <p:spPr>
            <a:xfrm>
              <a:off x="622440" y="6286320"/>
              <a:ext cx="63504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RCTextTop"/>
            <p:cNvSpPr/>
            <p:nvPr/>
          </p:nvSpPr>
          <p:spPr>
            <a:xfrm>
              <a:off x="546120" y="4660920"/>
              <a:ext cx="7621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hat is the tension when the mass is at the bottom of the path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65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270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40 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8 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98 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38 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68" name="ResponseCounter"/>
          <p:cNvGrpSpPr/>
          <p:nvPr/>
        </p:nvGrpSpPr>
        <p:grpSpPr>
          <a:xfrm>
            <a:off x="127080" y="4114800"/>
            <a:ext cx="635040" cy="2616120"/>
            <a:chOff x="127080" y="4114800"/>
            <a:chExt cx="635040" cy="2616120"/>
          </a:xfrm>
        </p:grpSpPr>
        <p:sp>
          <p:nvSpPr>
            <p:cNvPr id="469" name="RCLiquid"/>
            <p:cNvSpPr/>
            <p:nvPr/>
          </p:nvSpPr>
          <p:spPr>
            <a:xfrm>
              <a:off x="190440" y="6629400"/>
              <a:ext cx="508320" cy="360"/>
            </a:xfrm>
            <a:prstGeom prst="rect">
              <a:avLst/>
            </a:prstGeom>
            <a:solidFill>
              <a:srgbClr val="a3c1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RCBottom"/>
            <p:cNvSpPr/>
            <p:nvPr/>
          </p:nvSpPr>
          <p:spPr>
            <a:xfrm>
              <a:off x="127080" y="6438960"/>
              <a:ext cx="635040" cy="291960"/>
            </a:xfrm>
            <a:prstGeom prst="ellipse">
              <a:avLst/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RCLiquidTop"/>
            <p:cNvSpPr/>
            <p:nvPr/>
          </p:nvSpPr>
          <p:spPr>
            <a:xfrm>
              <a:off x="190440" y="6413400"/>
              <a:ext cx="508320" cy="241560"/>
            </a:xfrm>
            <a:prstGeom prst="ellipse">
              <a:avLst/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RCCan"/>
            <p:cNvSpPr/>
            <p:nvPr/>
          </p:nvSpPr>
          <p:spPr>
            <a:xfrm>
              <a:off x="190440" y="411480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9966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An object moves in a circular path with a constant speed of 3 m/s.  From an inertial reference frame,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87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object’s velocity is const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object’s acceleration is constant and directed away from the center of the circ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object’s acceleration is constant and directed toward the center of the circ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net force acting on the object is zer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90" name="ResponseCounter"/>
          <p:cNvGrpSpPr/>
          <p:nvPr/>
        </p:nvGrpSpPr>
        <p:grpSpPr>
          <a:xfrm>
            <a:off x="127080" y="1308240"/>
            <a:ext cx="1511280" cy="5422320"/>
            <a:chOff x="127080" y="1308240"/>
            <a:chExt cx="1511280" cy="5422320"/>
          </a:xfrm>
        </p:grpSpPr>
        <p:sp>
          <p:nvSpPr>
            <p:cNvPr id="391" name="RCPole"/>
            <p:cNvSpPr/>
            <p:nvPr/>
          </p:nvSpPr>
          <p:spPr>
            <a:xfrm>
              <a:off x="317520" y="1523880"/>
              <a:ext cx="0" cy="50796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RCFlag"/>
            <p:cNvSpPr/>
            <p:nvPr/>
          </p:nvSpPr>
          <p:spPr>
            <a:xfrm>
              <a:off x="368280" y="5905440"/>
              <a:ext cx="1270080" cy="76140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98640 h 761400"/>
                <a:gd name="textAreaBottom" fmla="*/ 662760 h 76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9966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RCTop"/>
            <p:cNvSpPr/>
            <p:nvPr/>
          </p:nvSpPr>
          <p:spPr>
            <a:xfrm>
              <a:off x="127080" y="1308240"/>
              <a:ext cx="381240" cy="253800"/>
            </a:xfrm>
            <a:prstGeom prst="ellipse">
              <a:avLst/>
            </a:prstGeom>
            <a:solidFill>
              <a:srgbClr val="9383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RCBottom"/>
            <p:cNvSpPr/>
            <p:nvPr/>
          </p:nvSpPr>
          <p:spPr>
            <a:xfrm>
              <a:off x="127080" y="6603840"/>
              <a:ext cx="406440" cy="126720"/>
            </a:xfrm>
            <a:prstGeom prst="rect">
              <a:avLst/>
            </a:prstGeom>
            <a:solidFill>
              <a:srgbClr val="9383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 car rounds a curve at a constant speed.  In this cas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96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270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is no centripetal for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entripetal force is due to the car’s spe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entripetal force was the force of fri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entripetal force was the person’s hand on the whe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99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400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ravitational force i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03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270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undamental force of na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non-contact for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eak force when dealing with everyday obje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of the abo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06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407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9966ff"/>
                </a:gs>
                <a:gs pos="100000">
                  <a:srgbClr val="9383b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Which has the greatest linear speed, a horse near the outside of a merry-go-round or a horse near the inside rail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10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270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side hor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ide hor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peeds are the s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horse is a horse of course of cour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13" name="ResponseCounter"/>
          <p:cNvGrpSpPr/>
          <p:nvPr/>
        </p:nvGrpSpPr>
        <p:grpSpPr>
          <a:xfrm>
            <a:off x="317520" y="4660920"/>
            <a:ext cx="1270080" cy="1879560"/>
            <a:chOff x="317520" y="4660920"/>
            <a:chExt cx="1270080" cy="1879560"/>
          </a:xfrm>
        </p:grpSpPr>
        <p:sp>
          <p:nvSpPr>
            <p:cNvPr id="414" name="RCArrow"/>
            <p:cNvSpPr/>
            <p:nvPr/>
          </p:nvSpPr>
          <p:spPr>
            <a:xfrm>
              <a:off x="317520" y="5486400"/>
              <a:ext cx="1270080" cy="253800"/>
            </a:xfrm>
            <a:prstGeom prst="leftArrow">
              <a:avLst>
                <a:gd name="adj1" fmla="val 50000"/>
                <a:gd name="adj2" fmla="val 125106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a3c145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RCTextBottom"/>
            <p:cNvSpPr/>
            <p:nvPr/>
          </p:nvSpPr>
          <p:spPr>
            <a:xfrm>
              <a:off x="622440" y="6286320"/>
              <a:ext cx="63504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RCTextTop"/>
            <p:cNvSpPr/>
            <p:nvPr/>
          </p:nvSpPr>
          <p:spPr>
            <a:xfrm>
              <a:off x="546120" y="4660920"/>
              <a:ext cx="7621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ind the value of 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g,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acceleration due to gravity, if the Earth suddenly doubled it’s mass while keeping the radius the same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18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902960"/>
            <a:ext cx="42703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¼ 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½ 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1" name="ResponseCounter"/>
          <p:cNvGrpSpPr/>
          <p:nvPr/>
        </p:nvGrpSpPr>
        <p:grpSpPr>
          <a:xfrm>
            <a:off x="127080" y="4114800"/>
            <a:ext cx="635040" cy="2616120"/>
            <a:chOff x="127080" y="4114800"/>
            <a:chExt cx="635040" cy="2616120"/>
          </a:xfrm>
        </p:grpSpPr>
        <p:sp>
          <p:nvSpPr>
            <p:cNvPr id="422" name="RCLiquid"/>
            <p:cNvSpPr/>
            <p:nvPr/>
          </p:nvSpPr>
          <p:spPr>
            <a:xfrm>
              <a:off x="190440" y="6629400"/>
              <a:ext cx="508320" cy="360"/>
            </a:xfrm>
            <a:prstGeom prst="rect">
              <a:avLst/>
            </a:prstGeom>
            <a:solidFill>
              <a:srgbClr val="a3c1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RCBottom"/>
            <p:cNvSpPr/>
            <p:nvPr/>
          </p:nvSpPr>
          <p:spPr>
            <a:xfrm>
              <a:off x="127080" y="6438960"/>
              <a:ext cx="635040" cy="291960"/>
            </a:xfrm>
            <a:prstGeom prst="ellipse">
              <a:avLst/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RCLiquidTop"/>
            <p:cNvSpPr/>
            <p:nvPr/>
          </p:nvSpPr>
          <p:spPr>
            <a:xfrm>
              <a:off x="190440" y="6413400"/>
              <a:ext cx="508320" cy="241560"/>
            </a:xfrm>
            <a:prstGeom prst="ellipse">
              <a:avLst/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RCCan"/>
            <p:cNvSpPr/>
            <p:nvPr/>
          </p:nvSpPr>
          <p:spPr>
            <a:xfrm>
              <a:off x="190440" y="411480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9966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Find the value of </a:t>
            </a:r>
            <a:r>
              <a:rPr b="0" i="1" lang="en-US" sz="3600" spc="-1" strike="noStrike">
                <a:solidFill>
                  <a:srgbClr val="ffffcc"/>
                </a:solidFill>
                <a:latin typeface="Tahoma"/>
              </a:rPr>
              <a:t>g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, if the Earth’s radius is cut in half but the mass remains the same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27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270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¼ 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½ 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30" name="ResponseCounter"/>
          <p:cNvGrpSpPr/>
          <p:nvPr/>
        </p:nvGrpSpPr>
        <p:grpSpPr>
          <a:xfrm>
            <a:off x="127080" y="4191120"/>
            <a:ext cx="507960" cy="2539800"/>
            <a:chOff x="127080" y="4191120"/>
            <a:chExt cx="507960" cy="2539800"/>
          </a:xfrm>
        </p:grpSpPr>
        <p:sp>
          <p:nvSpPr>
            <p:cNvPr id="431" name="RCFloat"/>
            <p:cNvSpPr/>
            <p:nvPr/>
          </p:nvSpPr>
          <p:spPr>
            <a:xfrm>
              <a:off x="139680" y="6222960"/>
              <a:ext cx="482040" cy="5076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5b5d6b"/>
                </a:gs>
                <a:gs pos="100000">
                  <a:srgbClr val="b9bac0"/>
                </a:gs>
              </a:gsLst>
              <a:lin ang="81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RCCan"/>
            <p:cNvSpPr/>
            <p:nvPr/>
          </p:nvSpPr>
          <p:spPr>
            <a:xfrm>
              <a:off x="127080" y="4191120"/>
              <a:ext cx="507960" cy="2539800"/>
            </a:xfrm>
            <a:prstGeom prst="can">
              <a:avLst>
                <a:gd name="adj" fmla="val 10000"/>
              </a:avLst>
            </a:prstGeom>
            <a:gradFill rotWithShape="0">
              <a:gsLst>
                <a:gs pos="0">
                  <a:srgbClr val="9966ff"/>
                </a:gs>
                <a:gs pos="50000">
                  <a:srgbClr val="5a5c6c">
                    <a:alpha val="35294"/>
                  </a:srgbClr>
                </a:gs>
                <a:gs pos="100000">
                  <a:srgbClr val="9966ff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ind the value of </a:t>
            </a: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g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, if both the mass and the radius were tripled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34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270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/9 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/3 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37" name="ResponseCounter"/>
          <p:cNvGrpSpPr/>
          <p:nvPr/>
        </p:nvGrpSpPr>
        <p:grpSpPr>
          <a:xfrm>
            <a:off x="127080" y="1308240"/>
            <a:ext cx="1511280" cy="5422320"/>
            <a:chOff x="127080" y="1308240"/>
            <a:chExt cx="1511280" cy="5422320"/>
          </a:xfrm>
        </p:grpSpPr>
        <p:sp>
          <p:nvSpPr>
            <p:cNvPr id="438" name="RCPole"/>
            <p:cNvSpPr/>
            <p:nvPr/>
          </p:nvSpPr>
          <p:spPr>
            <a:xfrm>
              <a:off x="317520" y="1523880"/>
              <a:ext cx="0" cy="50796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RCFlag"/>
            <p:cNvSpPr/>
            <p:nvPr/>
          </p:nvSpPr>
          <p:spPr>
            <a:xfrm>
              <a:off x="368280" y="5905440"/>
              <a:ext cx="1270080" cy="76140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98640 h 761400"/>
                <a:gd name="textAreaBottom" fmla="*/ 662760 h 76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9966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RCTop"/>
            <p:cNvSpPr/>
            <p:nvPr/>
          </p:nvSpPr>
          <p:spPr>
            <a:xfrm>
              <a:off x="127080" y="1308240"/>
              <a:ext cx="381240" cy="253800"/>
            </a:xfrm>
            <a:prstGeom prst="ellipse">
              <a:avLst/>
            </a:prstGeom>
            <a:solidFill>
              <a:srgbClr val="9383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RCBottom"/>
            <p:cNvSpPr/>
            <p:nvPr/>
          </p:nvSpPr>
          <p:spPr>
            <a:xfrm>
              <a:off x="127080" y="6603840"/>
              <a:ext cx="406440" cy="126720"/>
            </a:xfrm>
            <a:prstGeom prst="rect">
              <a:avLst/>
            </a:prstGeom>
            <a:solidFill>
              <a:srgbClr val="9383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 car with a mass of 2300 kg reaches a dip in the road (radius of 83 m) at a speed of 17 m/s.  What is the normal force on the car at the bottom of the dip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43" name="TPChart"/>
          <p:cNvGraphicFramePr/>
          <p:nvPr/>
        </p:nvGraphicFramePr>
        <p:xfrm>
          <a:off x="4508640" y="1905120"/>
          <a:ext cx="4570200" cy="488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905120"/>
                    <a:ext cx="4570200" cy="48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2206800"/>
            <a:ext cx="4270320" cy="38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,008 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4,992 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3,000 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1,008 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46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447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2:20:56Z</dcterms:created>
  <dc:creator>End User</dc:creator>
  <dc:description/>
  <dc:language>en-US</dc:language>
  <cp:lastModifiedBy>End User</cp:lastModifiedBy>
  <dcterms:modified xsi:type="dcterms:W3CDTF">2008-04-25T13:33:49Z</dcterms:modified>
  <cp:revision>5</cp:revision>
  <dc:subject/>
  <dc:title>Slide 1</dc:title>
</cp:coreProperties>
</file>